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5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CD52-3294-4F08-A2B7-EF1E0C0C4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4BC0-6C87-48B1-8321-3C781DA4F1F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99C2-B5CC-4285-A971-B9827EE618F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F209-C769-4924-86E8-289AF3EA8E4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6C93-526A-486F-9F76-D8DBF5AFB49C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8372-2E14-4A56-ABAD-5C7F889B6A5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1AB-3376-4C22-92D7-C1251AD4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A1D-1CFB-4F09-BDC0-07254245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442-F13B-40FC-AD43-99447CC6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0A5-4C56-4320-8743-0BE55C4A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0292-D99C-4B95-8D3B-F72E2CED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45C2-BD13-407C-BED9-30F7BDC1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AD38-9702-41A1-BC59-790591EE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533D-0E4C-455A-87E4-25B9EFDD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FEF5-407C-454C-8BC6-1D377E87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6784-A5C4-4D8A-A149-59FADB88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72AF-AF59-44A9-AA49-F0D9B3F7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C7B-DCDA-4286-90C5-9F0D7830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0BB0-5CC1-4C2A-A65B-3C5D43D4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51D1-3794-4780-8B3A-6FB9ED42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7800-0AAA-4E89-B685-E74EF023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0CDA-D923-40EA-A241-36F1C820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2572-A326-4297-8961-F702C32C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346-B887-41CD-A777-640BEAED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C28-C6D2-4F2E-BAAA-5A95EB47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416-A3EF-4F7C-AA4B-FCA78BAB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9EB-A6FF-4187-B313-F0FD7E0B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13D-3235-489A-9D34-5DDC6F18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30A-EC3D-412E-BFD6-07EEA0B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E7B-90DB-4195-8210-4A96054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9D83-9F42-4ECE-A4F4-B4D97A5FF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1815-BE8E-4437-88F1-B519C880B72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RY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1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C:\WINDOWS\DESKTOP\Roger\desert.jpg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:\WINDOWS\DESKTOP\Roger\car_theft.jpg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6" descr="C:\WINDOWS\DESKTOP\Roger\hands.jpg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5" descr="C:\WINDOWS\DESKTOP\Roger\beowulf.gi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68" name="Picture 5" descr="C:\WINDOWS\DESKTOP\Roger\leaves.jpg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69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9" name="Picture 5" descr="C:\WINDOWS\DESKTOP\Roger\Guillotine.jpg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84" name="Picture 5" descr="C:\WINDOWS\DESKTOP\Roger\idiot.gif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99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8" name="Picture 5" descr="C:\WINDOWS\DESKTOP\Roger\eagle.jpg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H:\Roger\goliath.jpg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WINDOWS\DESKTOP\Roger\horsegallop.jpg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80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:\WINDOWS\DESKTOP\Roger\ship.jpg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78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783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3" name="Picture 5" descr="C:\WINDOWS\DESKTOP\Roger\eagle-eating-binladen001.jpg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66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19" name="Picture 5" descr="C:\WINDOWS\DESKTOP\Roger\Silence.jpg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238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6" name="Picture 6" descr="C:\WINDOWS\DESKTOP\Roger\meteors.jpg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5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1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2" name="Picture 5" descr="C:\WINDOWS\DESKTOP\Roger\peir11.jpg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33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5" descr="C:\WINDOWS\DESKTOP\Roger\9-01_Mockingbird.jpg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39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4" name="Picture 5" descr="C:\WINDOWS\DESKTOP\Roger\friends.jpg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H:\Roger\butterfly.jpg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C:\WINDOWS\DESKTOP\Roger\angryface.jpg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cvarner</cp:lastModifiedBy>
  <dcterms:modified xsi:type="dcterms:W3CDTF">2009-05-15T02:11:31Z</dcterms:modified>
  <cp:revision>47</cp:revision>
  <dc:subject/>
  <dc:title>POETIC TERMS</dc:title>
</cp:coreProperties>
</file>